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41CC-622A-4DC1-B975-7D9CAFE7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480" y="3907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6CC6-004F-480D-8983-9143AEC1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3152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AEDE-1480-4764-8033-ED7E1A65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9692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936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48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9692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936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8EF-2D45-4654-8D8A-E6FBA786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0D50-9C0B-478A-B48B-FEFDD553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5941-11C7-4835-BCB3-0A4EE9B3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1D4E-F814-4A51-9FC4-76744E47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0E46-56AD-4C96-9B94-04304E95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02FB-22B1-46F9-81C8-E7F4492D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8520" y="-2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44A7-BEC2-4D4A-8F3B-E94900A9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8B94-0B95-4BB1-836B-7E6912D1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950C-85EC-4BD8-B56C-A44DC108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3152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FF2F-AE89-45F2-94C7-48AE6BB4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1739-C2DF-48BC-B88A-7915CC57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480" y="3907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3AEF-7898-445E-8FC9-B3047930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3152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B145-0293-4C5B-867C-243B3531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9692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79360" y="1542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48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89692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79360" y="3907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6325-6804-41C2-9E49-67832D16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08CE-7F3E-458D-AFBA-169D084D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495-6FE1-45DA-B986-8E8B3C92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17F-F66E-4CC1-A897-B1EC0789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8520" y="-2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997-5B6F-45DA-9830-64269A03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B8D-1539-4627-AB81-1C0D3731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31520" y="3907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6FF7-968A-4A81-8052-9115D7E7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31520" y="1542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480" y="3907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8A31-872A-4A5D-9FE6-21E911BC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C932-0449-4043-A1A6-0273EBCA112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84280" y="6244920"/>
            <a:ext cx="4375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© 2008 Eli Lilly and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mantic Technologies (from an old DBA’s perspectiv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70D1-0908-4B6A-A1C8-5ABE8E790A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26C9-6632-4785-B381-6A4F47F141C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© 2008 Eli Lilly and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AEF1-9589-4B09-B7B8-96295EA063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Amgen%20Boulder%20Inc" TargetMode="External"/><Relationship Id="rId2" Type="http://schemas.openxmlformats.org/officeDocument/2006/relationships/hyperlink" Target="file:///Synergen%20Inc" TargetMode="External"/><Relationship Id="rId3" Type="http://schemas.openxmlformats.org/officeDocument/2006/relationships/hyperlink" Target="file:///Applied%20Molecular%20Genetics%20Inc" TargetMode="External"/><Relationship Id="rId4" Type="http://schemas.openxmlformats.org/officeDocument/2006/relationships/hyperlink" Target="file:///Leptin%20agonist" TargetMode="Externa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racle.com/index.html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w3.org/RDF/icons/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www.w3.org/RDF/icons/" TargetMode="External"/><Relationship Id="rId6" Type="http://schemas.openxmlformats.org/officeDocument/2006/relationships/image" Target="../media/image5.png"/><Relationship Id="rId7" Type="http://schemas.openxmlformats.org/officeDocument/2006/relationships/hyperlink" Target="http://www.w3.org/RDF/icons/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www.w3.org/RDF/icons/" TargetMode="External"/><Relationship Id="rId10" Type="http://schemas.openxmlformats.org/officeDocument/2006/relationships/image" Target="../media/image5.png"/><Relationship Id="rId11" Type="http://schemas.openxmlformats.org/officeDocument/2006/relationships/hyperlink" Target="http://www.w3.org/RDF/icons/" TargetMode="External"/><Relationship Id="rId12" Type="http://schemas.openxmlformats.org/officeDocument/2006/relationships/image" Target="../media/image5.png"/><Relationship Id="rId13" Type="http://schemas.openxmlformats.org/officeDocument/2006/relationships/hyperlink" Target="http://www.w3.org/RDF/icons/" TargetMode="External"/><Relationship Id="rId14" Type="http://schemas.openxmlformats.org/officeDocument/2006/relationships/image" Target="../media/image5.png"/><Relationship Id="rId15" Type="http://schemas.openxmlformats.org/officeDocument/2006/relationships/hyperlink" Target="http://www.w3.org/RDF/icons/" TargetMode="External"/><Relationship Id="rId16" Type="http://schemas.openxmlformats.org/officeDocument/2006/relationships/image" Target="../media/image5.png"/><Relationship Id="rId17" Type="http://schemas.openxmlformats.org/officeDocument/2006/relationships/hyperlink" Target="http://www.w3.org/RDF/icons/" TargetMode="External"/><Relationship Id="rId18" Type="http://schemas.openxmlformats.org/officeDocument/2006/relationships/image" Target="../media/image5.png"/><Relationship Id="rId19" Type="http://schemas.openxmlformats.org/officeDocument/2006/relationships/hyperlink" Target="http://www.w3.org/RDF/icons/" TargetMode="External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7.wmf"/><Relationship Id="rId2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of Semantic Technologi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Eli Lilly and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5920" y="2712960"/>
            <a:ext cx="64008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J Phil Brook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formation Consultant, SE Data Team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scover I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i Lilly and Compan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cus of Integrative Informatics is to facilitate data integration between the discovery and medical components with Eli Li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methodology is to execute Proofs of Concept (POC) projects to identify, construct, and test various solutions for solving the integr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o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C1: CATIE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C4: Endocrine PI Competitive Intellig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ic Browser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F7A3-D681-4A38-B5CB-A1855B3531A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73AFA-5DB4-46AE-9770-5A8E8A5280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1 - CATIE Semantic Integ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ATIE stud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Antipsychotic Trials of Intervention Effe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the most comprehensive independent trial ever completed to examine existing anti-psychotic therapies for schizophre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detailed information comparing the effectiveness and side effects of five medications currently used to treat schizophre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anza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tia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peri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prasid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phen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ly enhances the knowledge available to guide treatment choices for people with schizophr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0D2-80DC-46A1-B95D-DB7AEADE121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011CE-5A9C-4416-A9D1-52B618598F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1 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ether semantic integration and analysis of the CATIE data set in the context of metabolic and signal transduction pathways with receptor affinities can provide answers to specific scientific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pathways are associated with response to the 5 different schizophrenia drug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these pathways compare between treatment ar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receptors are associated with response to the 5 schizophrenia dru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the pathways, receptors and the drug response genes from the CATIE data set rel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9F7-90B3-414F-AC30-D389F3DD45B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F52D1-3C21-4252-97B7-514F1C2589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5942160" y="1273320"/>
            <a:ext cx="2971800" cy="4642920"/>
            <a:chOff x="5942160" y="1273320"/>
            <a:chExt cx="2971800" cy="4642920"/>
          </a:xfrm>
        </p:grpSpPr>
        <p:pic>
          <p:nvPicPr>
            <p:cNvPr id="327" name="" descr=""/>
            <p:cNvPicPr/>
            <p:nvPr/>
          </p:nvPicPr>
          <p:blipFill>
            <a:blip r:embed="rId1"/>
            <a:stretch/>
          </p:blipFill>
          <p:spPr>
            <a:xfrm>
              <a:off x="5942160" y="1273320"/>
              <a:ext cx="2438640" cy="95436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28" name="" descr=""/>
            <p:cNvPicPr/>
            <p:nvPr/>
          </p:nvPicPr>
          <p:blipFill>
            <a:blip r:embed="rId2"/>
            <a:stretch/>
          </p:blipFill>
          <p:spPr>
            <a:xfrm>
              <a:off x="6247080" y="1798560"/>
              <a:ext cx="2209680" cy="95436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29" name="" descr=""/>
            <p:cNvPicPr/>
            <p:nvPr/>
          </p:nvPicPr>
          <p:blipFill>
            <a:blip r:embed="rId3"/>
            <a:stretch/>
          </p:blipFill>
          <p:spPr>
            <a:xfrm>
              <a:off x="6018480" y="2440080"/>
              <a:ext cx="2209680" cy="85968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0" name="" descr=""/>
            <p:cNvPicPr/>
            <p:nvPr/>
          </p:nvPicPr>
          <p:blipFill>
            <a:blip r:embed="rId4"/>
            <a:stretch/>
          </p:blipFill>
          <p:spPr>
            <a:xfrm>
              <a:off x="6247080" y="2907360"/>
              <a:ext cx="2514600" cy="81072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1" name="" descr=""/>
            <p:cNvPicPr/>
            <p:nvPr/>
          </p:nvPicPr>
          <p:blipFill>
            <a:blip r:embed="rId5"/>
            <a:stretch/>
          </p:blipFill>
          <p:spPr>
            <a:xfrm>
              <a:off x="5942160" y="3490560"/>
              <a:ext cx="2286000" cy="76356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2" name="" descr=""/>
            <p:cNvPicPr/>
            <p:nvPr/>
          </p:nvPicPr>
          <p:blipFill>
            <a:blip r:embed="rId6"/>
            <a:stretch/>
          </p:blipFill>
          <p:spPr>
            <a:xfrm>
              <a:off x="6247080" y="3840840"/>
              <a:ext cx="2514600" cy="78768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3" name="" descr=""/>
            <p:cNvPicPr/>
            <p:nvPr/>
          </p:nvPicPr>
          <p:blipFill>
            <a:blip r:embed="rId7"/>
            <a:stretch/>
          </p:blipFill>
          <p:spPr>
            <a:xfrm>
              <a:off x="6018480" y="4424760"/>
              <a:ext cx="2590920" cy="78048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4" name="" descr=""/>
            <p:cNvPicPr/>
            <p:nvPr/>
          </p:nvPicPr>
          <p:blipFill>
            <a:blip r:embed="rId8"/>
            <a:stretch/>
          </p:blipFill>
          <p:spPr>
            <a:xfrm>
              <a:off x="6170760" y="4950000"/>
              <a:ext cx="2743200" cy="61884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  <p:pic>
          <p:nvPicPr>
            <p:cNvPr id="335" name="" descr=""/>
            <p:cNvPicPr/>
            <p:nvPr/>
          </p:nvPicPr>
          <p:blipFill>
            <a:blip r:embed="rId9"/>
            <a:stretch/>
          </p:blipFill>
          <p:spPr>
            <a:xfrm>
              <a:off x="6018480" y="5416560"/>
              <a:ext cx="2514600" cy="499680"/>
            </a:xfrm>
            <a:prstGeom prst="rect">
              <a:avLst/>
            </a:prstGeom>
            <a:ln w="19080">
              <a:solidFill>
                <a:srgbClr val="808000"/>
              </a:solidFill>
              <a:miter/>
            </a:ln>
          </p:spPr>
        </p:pic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1 Data Aggreg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4120" y="1542960"/>
            <a:ext cx="563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IE Dru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lanza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phen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tia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speri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Ziprasi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z 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chem (for CATIE Dru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ay (Receptor Affinity Data for CAT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cy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7CF0-CD2D-4CC4-B561-401A1DF0BAB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201F2-D250-4090-A614-3C2EE3D6D0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35000" y="1293840"/>
            <a:ext cx="2590560" cy="2104920"/>
            <a:chOff x="135000" y="1293840"/>
            <a:chExt cx="2590560" cy="2104920"/>
          </a:xfrm>
        </p:grpSpPr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668160" y="1903320"/>
              <a:ext cx="1295640" cy="932040"/>
            </a:xfrm>
            <a:prstGeom prst="rect">
              <a:avLst/>
            </a:prstGeom>
            <a:ln w="12600">
              <a:solidFill>
                <a:srgbClr val="800000"/>
              </a:solidFill>
              <a:miter/>
            </a:ln>
          </p:spPr>
        </p:pic>
        <p:pic>
          <p:nvPicPr>
            <p:cNvPr id="341" name="" descr=""/>
            <p:cNvPicPr/>
            <p:nvPr/>
          </p:nvPicPr>
          <p:blipFill>
            <a:blip r:embed="rId2"/>
            <a:stretch/>
          </p:blipFill>
          <p:spPr>
            <a:xfrm>
              <a:off x="135000" y="2436840"/>
              <a:ext cx="1143000" cy="961920"/>
            </a:xfrm>
            <a:prstGeom prst="rect">
              <a:avLst/>
            </a:prstGeom>
            <a:ln w="12600">
              <a:solidFill>
                <a:srgbClr val="800000"/>
              </a:solidFill>
              <a:miter/>
            </a:ln>
          </p:spPr>
        </p:pic>
        <p:pic>
          <p:nvPicPr>
            <p:cNvPr id="342" name="" descr=""/>
            <p:cNvPicPr/>
            <p:nvPr/>
          </p:nvPicPr>
          <p:blipFill>
            <a:blip r:embed="rId3"/>
            <a:stretch/>
          </p:blipFill>
          <p:spPr>
            <a:xfrm>
              <a:off x="1506600" y="2513160"/>
              <a:ext cx="1218960" cy="882360"/>
            </a:xfrm>
            <a:prstGeom prst="rect">
              <a:avLst/>
            </a:prstGeom>
            <a:ln w="12600">
              <a:solidFill>
                <a:srgbClr val="800000"/>
              </a:solidFill>
              <a:miter/>
            </a:ln>
          </p:spPr>
        </p:pic>
        <p:sp>
          <p:nvSpPr>
            <p:cNvPr id="343" name=""/>
            <p:cNvSpPr/>
            <p:nvPr/>
          </p:nvSpPr>
          <p:spPr>
            <a:xfrm>
              <a:off x="363600" y="1293840"/>
              <a:ext cx="1981080" cy="4572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 in Multiple Format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Flat file, Tab limited, XML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192720" y="1293840"/>
            <a:ext cx="2846520" cy="2590560"/>
            <a:chOff x="6192720" y="1293840"/>
            <a:chExt cx="2846520" cy="2590560"/>
          </a:xfrm>
        </p:grpSpPr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6192720" y="1674720"/>
              <a:ext cx="129564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5"/>
            <a:stretch/>
          </p:blipFill>
          <p:spPr>
            <a:xfrm>
              <a:off x="7869240" y="1674720"/>
              <a:ext cx="1170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6192720" y="1293840"/>
              <a:ext cx="236232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p – Level Ontolog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733920" y="2400480"/>
            <a:ext cx="1676160" cy="5331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DF conversion using Jen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gramming AP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676520" y="4137120"/>
            <a:ext cx="1295280" cy="1790640"/>
            <a:chOff x="1676520" y="4137120"/>
            <a:chExt cx="1295280" cy="1790640"/>
          </a:xfrm>
        </p:grpSpPr>
        <p:sp>
          <p:nvSpPr>
            <p:cNvPr id="350" name=""/>
            <p:cNvSpPr/>
            <p:nvPr/>
          </p:nvSpPr>
          <p:spPr>
            <a:xfrm>
              <a:off x="1752480" y="4137120"/>
              <a:ext cx="1143000" cy="1066680"/>
            </a:xfrm>
            <a:prstGeom prst="can">
              <a:avLst>
                <a:gd name="adj" fmla="val 25000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acle 11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DF 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2324160" y="5203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76520" y="5470560"/>
              <a:ext cx="1295280" cy="45720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erform SPARQ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Query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6183360" y="4137120"/>
            <a:ext cx="1295280" cy="1752480"/>
            <a:chOff x="6183360" y="4137120"/>
            <a:chExt cx="1295280" cy="1752480"/>
          </a:xfrm>
        </p:grpSpPr>
        <p:sp>
          <p:nvSpPr>
            <p:cNvPr id="354" name=""/>
            <p:cNvSpPr/>
            <p:nvPr/>
          </p:nvSpPr>
          <p:spPr>
            <a:xfrm>
              <a:off x="6259680" y="4137120"/>
              <a:ext cx="1143000" cy="1066680"/>
            </a:xfrm>
            <a:prstGeom prst="can">
              <a:avLst>
                <a:gd name="adj" fmla="val 25000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legrograp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tive RD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iple 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831000" y="5203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83360" y="5432400"/>
              <a:ext cx="1295280" cy="45720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erform SPARQ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Query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994480" y="2695680"/>
            <a:ext cx="3154320" cy="1771200"/>
            <a:chOff x="2994480" y="2695680"/>
            <a:chExt cx="3154320" cy="1771200"/>
          </a:xfrm>
        </p:grpSpPr>
        <p:grpSp>
          <p:nvGrpSpPr>
            <p:cNvPr id="358" name=""/>
            <p:cNvGrpSpPr/>
            <p:nvPr/>
          </p:nvGrpSpPr>
          <p:grpSpPr>
            <a:xfrm>
              <a:off x="3841560" y="2973240"/>
              <a:ext cx="1461600" cy="1216080"/>
              <a:chOff x="3841560" y="2973240"/>
              <a:chExt cx="1461600" cy="1216080"/>
            </a:xfrm>
          </p:grpSpPr>
          <p:sp>
            <p:nvSpPr>
              <p:cNvPr id="359" name=""/>
              <p:cNvSpPr/>
              <p:nvPr/>
            </p:nvSpPr>
            <p:spPr>
              <a:xfrm>
                <a:off x="3841560" y="2973240"/>
                <a:ext cx="1461600" cy="1216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138200" y="3269520"/>
                <a:ext cx="182520" cy="1821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381920" y="3877560"/>
                <a:ext cx="182520" cy="1821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016520" y="3695040"/>
                <a:ext cx="182520" cy="182160"/>
              </a:xfrm>
              <a:prstGeom prst="ellipse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4199400" y="3573360"/>
                <a:ext cx="243360" cy="18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519080" y="3079440"/>
                <a:ext cx="411120" cy="31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4137840" y="3452040"/>
                <a:ext cx="60840" cy="2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4503240" y="3634560"/>
                <a:ext cx="60840" cy="2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4503600" y="3201120"/>
                <a:ext cx="15120" cy="31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42760" y="3452040"/>
                <a:ext cx="182520" cy="18216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625280" y="3573360"/>
                <a:ext cx="365400" cy="18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38200" y="3877560"/>
                <a:ext cx="243360" cy="12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4564800" y="3938040"/>
                <a:ext cx="243360" cy="6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47320" y="3816720"/>
                <a:ext cx="182520" cy="182160"/>
              </a:xfrm>
              <a:prstGeom prst="ellipse">
                <a:avLst/>
              </a:prstGeom>
              <a:solidFill>
                <a:srgbClr val="cc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884480" y="3322800"/>
                <a:ext cx="182520" cy="1821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051880" y="3467160"/>
                <a:ext cx="0" cy="28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975920" y="3672360"/>
                <a:ext cx="182520" cy="18216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442760" y="3056760"/>
                <a:ext cx="182520" cy="182160"/>
              </a:xfrm>
              <a:prstGeom prst="ellipse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5182560" y="2695680"/>
              <a:ext cx="966240" cy="1771200"/>
              <a:chOff x="5182560" y="2695680"/>
              <a:chExt cx="966240" cy="1771200"/>
            </a:xfrm>
          </p:grpSpPr>
          <p:sp>
            <p:nvSpPr>
              <p:cNvPr id="378" name=""/>
              <p:cNvSpPr/>
              <p:nvPr/>
            </p:nvSpPr>
            <p:spPr>
              <a:xfrm flipH="1" rot="20184600">
                <a:off x="5311800" y="2831760"/>
                <a:ext cx="777240" cy="457200"/>
              </a:xfrm>
              <a:custGeom>
                <a:avLst/>
                <a:gdLst>
                  <a:gd name="textAreaLeft" fmla="*/ 121320 w 777240"/>
                  <a:gd name="textAreaRight" fmla="*/ 680400 w 77724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415400">
                <a:off x="5241240" y="3873240"/>
                <a:ext cx="777600" cy="457200"/>
              </a:xfrm>
              <a:custGeom>
                <a:avLst/>
                <a:gdLst>
                  <a:gd name="textAreaLeft" fmla="*/ 121320 w 777600"/>
                  <a:gd name="textAreaRight" fmla="*/ 680400 w 77760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2994480" y="2695680"/>
              <a:ext cx="966240" cy="1771200"/>
              <a:chOff x="2994480" y="2695680"/>
              <a:chExt cx="966240" cy="1771200"/>
            </a:xfrm>
          </p:grpSpPr>
          <p:sp>
            <p:nvSpPr>
              <p:cNvPr id="381" name=""/>
              <p:cNvSpPr/>
              <p:nvPr/>
            </p:nvSpPr>
            <p:spPr>
              <a:xfrm rot="1415400">
                <a:off x="3053160" y="2831760"/>
                <a:ext cx="777240" cy="457200"/>
              </a:xfrm>
              <a:custGeom>
                <a:avLst/>
                <a:gdLst>
                  <a:gd name="textAreaLeft" fmla="*/ 121320 w 777240"/>
                  <a:gd name="textAreaRight" fmla="*/ 680400 w 77724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 rot="20184600">
                <a:off x="3123720" y="3872880"/>
                <a:ext cx="777240" cy="457200"/>
              </a:xfrm>
              <a:custGeom>
                <a:avLst/>
                <a:gdLst>
                  <a:gd name="textAreaLeft" fmla="*/ 121320 w 777240"/>
                  <a:gd name="textAreaRight" fmla="*/ 680400 w 77724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1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0BE-A940-4FA3-9480-F880682BB5B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8EE5A-7EA1-4D3B-8341-8A6F68AEEB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1 Conclu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semantic integration can be accomplished by using RD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complex data modeling can be achieved by using graph principles inherent in 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ranslation of scientific questions to graph queries can be accomplished using SPARQL and SEM_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zed outputs can easily be generated by making slight changes in the SPARQL query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EC3-DECC-4400-AA9B-A76B184261E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266AD-7450-4AF0-A257-710593CC45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C4 - Endocrine PI Competitive Intellig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ve Intelligence (CI) is a purposeful, ethical and co-coordinated monitoring of the competitors in any industry within a specific market plac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gically gain foreknowledge of recent developments of your competitor's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calculated informed business decisions and formulate operational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the Endocrine Public Information (PI) project is to provide a mechanism for actively surveying the public information for competitive intelligence on the Endocrin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907-6CA9-467F-84BB-DE5278E11C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32AB0-17B9-4678-BD97-B61804344F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4 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such a competitive intelligence effort significantly benefit from a semantic compon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Endocrine PI project significantly benefit from semantic integ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re pre-existing ontologies for Company and method of action (MOA) domai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atural language processing (NLP) or text mining methods work for this kind of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“buried” knowledge exist within that datasets that can be discovered using inference and reaso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38F-8225-4F19-8C18-4DEDD81B987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D2AF9-9D83-49F2-9D7B-2FE21951B2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4 Integration Challen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2280" y="1263600"/>
            <a:ext cx="3429000" cy="3049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ctic Vari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14360" y="3524400"/>
          <a:ext cx="3733920" cy="2365200"/>
        </p:xfrm>
        <a:graphic>
          <a:graphicData uri="http://schemas.openxmlformats.org/drawingml/2006/table">
            <a:tbl>
              <a:tblPr/>
              <a:tblGrid>
                <a:gridCol w="914400"/>
                <a:gridCol w="2819520"/>
              </a:tblGrid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 Boulder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ed Molecular Genetics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ergen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otonin 2A receptor antagonis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HT 2  receptor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HT2a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oxisome proliferator-activated receptor delta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AR delta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anin concentrating hormone receptor 1 antagonis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H receptor-1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422280" y="1568520"/>
          <a:ext cx="3429000" cy="1447560"/>
        </p:xfrm>
        <a:graphic>
          <a:graphicData uri="http://schemas.openxmlformats.org/drawingml/2006/table">
            <a:tbl>
              <a:tblPr/>
              <a:tblGrid>
                <a:gridCol w="914400"/>
                <a:gridCol w="2514600"/>
              </a:tblGrid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k &amp; 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k &amp; Co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k &amp; Co Lt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-glucosidase inhibi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cosidase inhibitor alph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F binding protein-3 stimula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F binding protein stimulator-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"/>
          <p:cNvSpPr/>
          <p:nvPr/>
        </p:nvSpPr>
        <p:spPr>
          <a:xfrm>
            <a:off x="417600" y="3219480"/>
            <a:ext cx="3733560" cy="3049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ntic Vari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46800" y="1263600"/>
            <a:ext cx="2895480" cy="304920"/>
          </a:xfrm>
          <a:prstGeom prst="rect">
            <a:avLst/>
          </a:prstGeom>
          <a:solidFill>
            <a:srgbClr val="cc99ff">
              <a:alpha val="58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 – Child Re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465880" y="1687680"/>
            <a:ext cx="2359080" cy="19429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rcRect l="1396" t="0" r="0" b="0"/>
          <a:stretch/>
        </p:blipFill>
        <p:spPr>
          <a:xfrm>
            <a:off x="5446800" y="3679920"/>
            <a:ext cx="3029040" cy="20286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92B-8931-469C-B04C-2CECA929512B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9AE56-B693-4AA8-8210-87287BC9FF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-13320" y="1692360"/>
            <a:ext cx="6503040" cy="3786120"/>
            <a:chOff x="-13320" y="1692360"/>
            <a:chExt cx="6503040" cy="3786120"/>
          </a:xfrm>
        </p:grpSpPr>
        <p:grpSp>
          <p:nvGrpSpPr>
            <p:cNvPr id="404" name=""/>
            <p:cNvGrpSpPr/>
            <p:nvPr/>
          </p:nvGrpSpPr>
          <p:grpSpPr>
            <a:xfrm>
              <a:off x="-13320" y="2303640"/>
              <a:ext cx="765720" cy="3165480"/>
              <a:chOff x="-13320" y="2303640"/>
              <a:chExt cx="765720" cy="3165480"/>
            </a:xfrm>
          </p:grpSpPr>
          <p:sp>
            <p:nvSpPr>
              <p:cNvPr id="405" name=""/>
              <p:cNvSpPr/>
              <p:nvPr/>
            </p:nvSpPr>
            <p:spPr>
              <a:xfrm>
                <a:off x="218880" y="2303640"/>
                <a:ext cx="533520" cy="3165480"/>
              </a:xfrm>
              <a:prstGeom prst="rtTriangl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5400000">
                <a:off x="-1452960" y="3743280"/>
                <a:ext cx="3155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crease in Complex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1012680" y="1692360"/>
              <a:ext cx="1828800" cy="533520"/>
            </a:xfrm>
            <a:prstGeom prst="ellipse">
              <a:avLst/>
            </a:prstGeom>
            <a:solidFill>
              <a:srgbClr val="ff9900">
                <a:alpha val="7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w Endocrine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84560" y="2492280"/>
              <a:ext cx="914400" cy="38124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95400 h 381240"/>
                <a:gd name="textAreaBottom" fmla="*/ 2862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ff">
                <a:alpha val="3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82760" y="3406680"/>
              <a:ext cx="914400" cy="38124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95400 h 381240"/>
                <a:gd name="textAreaBottom" fmla="*/ 2862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ff">
                <a:alpha val="3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87440" y="4616640"/>
              <a:ext cx="914400" cy="38088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ff">
                <a:alpha val="3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819000" y="2313000"/>
              <a:ext cx="2217960" cy="739800"/>
              <a:chOff x="819000" y="2313000"/>
              <a:chExt cx="2217960" cy="739800"/>
            </a:xfrm>
          </p:grpSpPr>
          <p:sp>
            <p:nvSpPr>
              <p:cNvPr id="412" name=""/>
              <p:cNvSpPr/>
              <p:nvPr/>
            </p:nvSpPr>
            <p:spPr>
              <a:xfrm>
                <a:off x="819000" y="2313000"/>
                <a:ext cx="2217960" cy="739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ayer Cor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opamide receptor agoni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GLT inhibito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19000" y="2313000"/>
                <a:ext cx="2217960" cy="739800"/>
              </a:xfrm>
              <a:prstGeom prst="rect">
                <a:avLst/>
              </a:prstGeom>
              <a:solidFill>
                <a:srgbClr val="008000">
                  <a:alpha val="4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815760" y="3232080"/>
              <a:ext cx="2217960" cy="744480"/>
              <a:chOff x="815760" y="3232080"/>
              <a:chExt cx="2217960" cy="744480"/>
            </a:xfrm>
          </p:grpSpPr>
          <p:sp>
            <p:nvSpPr>
              <p:cNvPr id="415" name=""/>
              <p:cNvSpPr/>
              <p:nvPr/>
            </p:nvSpPr>
            <p:spPr>
              <a:xfrm>
                <a:off x="815760" y="3232080"/>
                <a:ext cx="2217960" cy="744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li Lill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TAT transcription factor stimula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lpha-glucosidase inhibito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15760" y="3232080"/>
                <a:ext cx="2217960" cy="739800"/>
              </a:xfrm>
              <a:prstGeom prst="rect">
                <a:avLst/>
              </a:prstGeom>
              <a:solidFill>
                <a:srgbClr val="ffff00">
                  <a:alpha val="2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19000" y="4156200"/>
              <a:ext cx="2225520" cy="1322280"/>
              <a:chOff x="819000" y="4156200"/>
              <a:chExt cx="2225520" cy="1322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9000" y="4156200"/>
                <a:ext cx="2225520" cy="132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lnSpc>
                    <a:spcPct val="8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eroxisome  proliferator-activated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8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receptor delta antagoni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8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 Hydroxytryptamine  2C agoni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Opioid kappa receptor antagonis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8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rotonin 1B receptor  agonis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19000" y="4156200"/>
                <a:ext cx="2225520" cy="1322280"/>
              </a:xfrm>
              <a:prstGeom prst="rect">
                <a:avLst/>
              </a:prstGeom>
              <a:solidFill>
                <a:srgbClr val="ff0000">
                  <a:alpha val="4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lnSpc>
                    <a:spcPct val="8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819000" y="3976920"/>
              <a:ext cx="2220840" cy="17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5760" y="3052800"/>
              <a:ext cx="2221200" cy="17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262400" y="1692360"/>
              <a:ext cx="2227320" cy="3776400"/>
              <a:chOff x="4262400" y="1692360"/>
              <a:chExt cx="2227320" cy="3776400"/>
            </a:xfrm>
          </p:grpSpPr>
          <p:sp>
            <p:nvSpPr>
              <p:cNvPr id="423" name=""/>
              <p:cNvSpPr/>
              <p:nvPr/>
            </p:nvSpPr>
            <p:spPr>
              <a:xfrm>
                <a:off x="4460760" y="1692360"/>
                <a:ext cx="1828800" cy="533520"/>
              </a:xfrm>
              <a:prstGeom prst="ellipse">
                <a:avLst/>
              </a:prstGeom>
              <a:solidFill>
                <a:srgbClr val="ff9900">
                  <a:alpha val="76000"/>
                </a:srgbClr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rms from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omson – Pharm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4265640" y="2313000"/>
                <a:ext cx="2217600" cy="739800"/>
                <a:chOff x="4265640" y="2313000"/>
                <a:chExt cx="2217600" cy="73980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4265640" y="2313000"/>
                  <a:ext cx="2217600" cy="739800"/>
                </a:xfrm>
                <a:prstGeom prst="rect">
                  <a:avLst/>
                </a:prstGeom>
                <a:solidFill>
                  <a:srgbClr val="ffffff">
                    <a:alpha val="47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ayer Corp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opamide receptor agon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GLT inhibit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265640" y="2313000"/>
                  <a:ext cx="2217600" cy="739800"/>
                </a:xfrm>
                <a:prstGeom prst="rect">
                  <a:avLst/>
                </a:prstGeom>
                <a:solidFill>
                  <a:srgbClr val="008000">
                    <a:alpha val="47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4262400" y="4146480"/>
                <a:ext cx="2227320" cy="1322280"/>
                <a:chOff x="4262400" y="4146480"/>
                <a:chExt cx="2227320" cy="13222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262400" y="4146480"/>
                  <a:ext cx="2225880" cy="132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PAR delta antagon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lnSpc>
                      <a:spcPct val="8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lnSpc>
                      <a:spcPct val="8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HT 1c agon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Kappa opioid antagon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lnSpc>
                      <a:spcPct val="8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-HT 1d beta agon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264200" y="4146480"/>
                  <a:ext cx="2225520" cy="1322280"/>
                </a:xfrm>
                <a:prstGeom prst="rect">
                  <a:avLst/>
                </a:prstGeom>
                <a:solidFill>
                  <a:srgbClr val="ff0000">
                    <a:alpha val="47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4262400" y="3043440"/>
                <a:ext cx="222084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262400" y="3967200"/>
                <a:ext cx="2220840" cy="17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4265640" y="3225960"/>
                <a:ext cx="2217600" cy="744480"/>
                <a:chOff x="4265640" y="3225960"/>
                <a:chExt cx="2217600" cy="7444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265640" y="3225960"/>
                  <a:ext cx="2217600" cy="744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li Lilly &amp; Co Lt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TAT stimulat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lucosidase inhibitor-alph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265640" y="3225960"/>
                  <a:ext cx="2217600" cy="739440"/>
                </a:xfrm>
                <a:prstGeom prst="rect">
                  <a:avLst/>
                </a:prstGeom>
                <a:solidFill>
                  <a:srgbClr val="ffff00">
                    <a:alpha val="2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5" name=""/>
          <p:cNvSpPr/>
          <p:nvPr/>
        </p:nvSpPr>
        <p:spPr>
          <a:xfrm>
            <a:off x="6597720" y="2697120"/>
            <a:ext cx="254628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LP Methods Us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mantic Norm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zzy D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gnoring Stop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ke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-based 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4 NLP and Semantic Integ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D628-F60D-4366-ACEC-EABC49215A70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8F3FE-0ED4-4A3F-8E58-2DF087EA1B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Ov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overy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ive Informa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C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adata Reposi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78A-AEB5-4B19-95FC-F7C8ACCDF2A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814B9-CB79-4239-BDCD-1B1D1AAF8E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184480" y="4516560"/>
            <a:ext cx="825480" cy="4474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19400" y="2138400"/>
            <a:ext cx="743040" cy="447480"/>
          </a:xfrm>
          <a:prstGeom prst="ellipse">
            <a:avLst/>
          </a:prstGeom>
          <a:solidFill>
            <a:srgbClr val="8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1"/>
          </p:cNvPr>
          <p:cNvSpPr/>
          <p:nvPr/>
        </p:nvSpPr>
        <p:spPr>
          <a:xfrm>
            <a:off x="7243920" y="4603680"/>
            <a:ext cx="1090440" cy="31932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gen Bould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rId2"/>
          </p:cNvPr>
          <p:cNvSpPr/>
          <p:nvPr/>
        </p:nvSpPr>
        <p:spPr>
          <a:xfrm>
            <a:off x="7388280" y="5380200"/>
            <a:ext cx="907920" cy="384120"/>
          </a:xfrm>
          <a:prstGeom prst="ellipse">
            <a:avLst/>
          </a:prstGeom>
          <a:solidFill>
            <a:srgbClr val="0000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ynergen I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3"/>
          </p:cNvPr>
          <p:cNvSpPr/>
          <p:nvPr/>
        </p:nvSpPr>
        <p:spPr>
          <a:xfrm>
            <a:off x="7211880" y="3706920"/>
            <a:ext cx="1322640" cy="38412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ied Molecula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enetics I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66920" y="5572080"/>
            <a:ext cx="825480" cy="384120"/>
          </a:xfrm>
          <a:prstGeom prst="ellipse">
            <a:avLst/>
          </a:prstGeom>
          <a:solidFill>
            <a:srgbClr val="3399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bgeni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315120" y="5635800"/>
            <a:ext cx="743040" cy="3841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vidia I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54440" y="2176560"/>
            <a:ext cx="2146320" cy="320400"/>
          </a:xfrm>
          <a:prstGeom prst="rect">
            <a:avLst/>
          </a:prstGeom>
          <a:solidFill>
            <a:srgbClr val="0099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lanin concentrating horm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ptor 1 antagoni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405560" y="2692440"/>
            <a:ext cx="1073160" cy="3841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CH receptor-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tagon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754440" y="1281240"/>
            <a:ext cx="2146320" cy="384120"/>
          </a:xfrm>
          <a:prstGeom prst="ellipse">
            <a:avLst/>
          </a:prstGeom>
          <a:solidFill>
            <a:srgbClr val="0000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lanin-concentrating hormo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ptor antagoni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827600" y="2496600"/>
            <a:ext cx="0" cy="76860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27600" y="3714840"/>
            <a:ext cx="0" cy="93348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00760" y="1782720"/>
            <a:ext cx="1487520" cy="459000"/>
          </a:xfrm>
          <a:custGeom>
            <a:avLst/>
            <a:gdLst/>
            <a:ahLst/>
            <a:rect l="l" t="t" r="r" b="b"/>
            <a:pathLst>
              <a:path w="864" h="344">
                <a:moveTo>
                  <a:pt x="0" y="344"/>
                </a:moveTo>
                <a:cubicBezTo>
                  <a:pt x="120" y="228"/>
                  <a:pt x="240" y="112"/>
                  <a:pt x="384" y="56"/>
                </a:cubicBezTo>
                <a:cubicBezTo>
                  <a:pt x="528" y="0"/>
                  <a:pt x="696" y="4"/>
                  <a:pt x="864" y="8"/>
                </a:cubicBezTo>
              </a:path>
            </a:pathLst>
          </a:custGeom>
          <a:noFill/>
          <a:ln w="22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 rot="2620200">
            <a:off x="5899680" y="2432880"/>
            <a:ext cx="1487520" cy="459000"/>
          </a:xfrm>
          <a:custGeom>
            <a:avLst/>
            <a:gdLst/>
            <a:ahLst/>
            <a:rect l="l" t="t" r="r" b="b"/>
            <a:pathLst>
              <a:path w="864" h="344">
                <a:moveTo>
                  <a:pt x="0" y="344"/>
                </a:moveTo>
                <a:cubicBezTo>
                  <a:pt x="120" y="228"/>
                  <a:pt x="240" y="112"/>
                  <a:pt x="384" y="56"/>
                </a:cubicBezTo>
                <a:cubicBezTo>
                  <a:pt x="528" y="0"/>
                  <a:pt x="696" y="4"/>
                  <a:pt x="864" y="8"/>
                </a:cubicBezTo>
              </a:path>
            </a:pathLst>
          </a:custGeom>
          <a:noFill/>
          <a:ln w="22320">
            <a:solidFill>
              <a:srgbClr val="8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rId4"/>
          </p:cNvPr>
          <p:cNvSpPr/>
          <p:nvPr/>
        </p:nvSpPr>
        <p:spPr>
          <a:xfrm>
            <a:off x="7378560" y="1550880"/>
            <a:ext cx="908280" cy="4478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PR-24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tagon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40160" y="3906720"/>
            <a:ext cx="1982880" cy="831960"/>
          </a:xfrm>
          <a:custGeom>
            <a:avLst/>
            <a:gdLst/>
            <a:ahLst/>
            <a:rect l="l" t="t" r="r" b="b"/>
            <a:pathLst>
              <a:path w="1152" h="624">
                <a:moveTo>
                  <a:pt x="0" y="624"/>
                </a:moveTo>
                <a:cubicBezTo>
                  <a:pt x="96" y="484"/>
                  <a:pt x="192" y="344"/>
                  <a:pt x="384" y="240"/>
                </a:cubicBezTo>
                <a:cubicBezTo>
                  <a:pt x="576" y="136"/>
                  <a:pt x="1024" y="40"/>
                  <a:pt x="1152" y="0"/>
                </a:cubicBezTo>
              </a:path>
            </a:pathLst>
          </a:custGeom>
          <a:noFill/>
          <a:ln w="22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232240" y="4749840"/>
            <a:ext cx="2208240" cy="807840"/>
          </a:xfrm>
          <a:custGeom>
            <a:avLst/>
            <a:gdLst/>
            <a:ahLst/>
            <a:rect l="l" t="t" r="r" b="b"/>
            <a:pathLst>
              <a:path w="1248" h="576">
                <a:moveTo>
                  <a:pt x="0" y="0"/>
                </a:moveTo>
                <a:cubicBezTo>
                  <a:pt x="184" y="168"/>
                  <a:pt x="368" y="336"/>
                  <a:pt x="576" y="432"/>
                </a:cubicBezTo>
                <a:cubicBezTo>
                  <a:pt x="784" y="528"/>
                  <a:pt x="1136" y="552"/>
                  <a:pt x="1248" y="576"/>
                </a:cubicBezTo>
              </a:path>
            </a:pathLst>
          </a:custGeom>
          <a:noFill/>
          <a:ln w="22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222880" y="4745160"/>
            <a:ext cx="1982880" cy="1440"/>
          </a:xfrm>
          <a:custGeom>
            <a:avLst/>
            <a:gdLst/>
            <a:ahLst/>
            <a:rect l="l" t="t" r="r" b="b"/>
            <a:pathLst>
              <a:path w="1152" h="1">
                <a:moveTo>
                  <a:pt x="0" y="0"/>
                </a:moveTo>
                <a:cubicBezTo>
                  <a:pt x="0" y="0"/>
                  <a:pt x="576" y="0"/>
                  <a:pt x="1152" y="0"/>
                </a:cubicBezTo>
              </a:path>
            </a:pathLst>
          </a:custGeom>
          <a:noFill/>
          <a:ln w="22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970360" y="2370240"/>
            <a:ext cx="78408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997000" y="4738680"/>
            <a:ext cx="150012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2689200"/>
            <a:ext cx="825480" cy="44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CH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tagoni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184480" y="3970440"/>
            <a:ext cx="825480" cy="449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es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84480" y="3330720"/>
            <a:ext cx="825480" cy="44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09960" y="2946240"/>
            <a:ext cx="1487520" cy="3844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864" y="240"/>
                </a:moveTo>
                <a:cubicBezTo>
                  <a:pt x="816" y="164"/>
                  <a:pt x="768" y="88"/>
                  <a:pt x="624" y="48"/>
                </a:cubicBezTo>
                <a:cubicBezTo>
                  <a:pt x="480" y="8"/>
                  <a:pt x="240" y="4"/>
                  <a:pt x="0" y="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009960" y="3522600"/>
            <a:ext cx="1487520" cy="1800"/>
          </a:xfrm>
          <a:custGeom>
            <a:avLst/>
            <a:gdLst/>
            <a:ahLst/>
            <a:rect l="l" t="t" r="r" b="b"/>
            <a:pathLst>
              <a:path w="864" h="1">
                <a:moveTo>
                  <a:pt x="864" y="0"/>
                </a:moveTo>
                <a:cubicBezTo>
                  <a:pt x="500" y="0"/>
                  <a:pt x="136" y="0"/>
                  <a:pt x="0" y="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14680" y="3274920"/>
            <a:ext cx="820800" cy="43812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09960" y="3651120"/>
            <a:ext cx="1569960" cy="533520"/>
          </a:xfrm>
          <a:custGeom>
            <a:avLst/>
            <a:gdLst/>
            <a:ahLst/>
            <a:rect l="l" t="t" r="r" b="b"/>
            <a:pathLst>
              <a:path w="912" h="400">
                <a:moveTo>
                  <a:pt x="912" y="0"/>
                </a:moveTo>
                <a:cubicBezTo>
                  <a:pt x="892" y="136"/>
                  <a:pt x="872" y="272"/>
                  <a:pt x="720" y="336"/>
                </a:cubicBezTo>
                <a:cubicBezTo>
                  <a:pt x="568" y="400"/>
                  <a:pt x="284" y="392"/>
                  <a:pt x="0" y="384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8040" y="2906640"/>
            <a:ext cx="825480" cy="447840"/>
          </a:xfrm>
          <a:prstGeom prst="ellipse">
            <a:avLst/>
          </a:prstGeom>
          <a:solidFill>
            <a:srgbClr val="00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u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28560" y="3652920"/>
            <a:ext cx="825480" cy="449280"/>
          </a:xfrm>
          <a:prstGeom prst="ellipse">
            <a:avLst/>
          </a:prstGeom>
          <a:solidFill>
            <a:srgbClr val="0000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41440" y="2881440"/>
            <a:ext cx="743040" cy="257040"/>
          </a:xfrm>
          <a:custGeom>
            <a:avLst/>
            <a:gdLst/>
            <a:ahLst/>
            <a:rect l="l" t="t" r="r" b="b"/>
            <a:pathLst>
              <a:path w="432" h="192">
                <a:moveTo>
                  <a:pt x="432" y="0"/>
                </a:moveTo>
                <a:cubicBezTo>
                  <a:pt x="348" y="8"/>
                  <a:pt x="264" y="16"/>
                  <a:pt x="192" y="48"/>
                </a:cubicBezTo>
                <a:cubicBezTo>
                  <a:pt x="120" y="80"/>
                  <a:pt x="32" y="168"/>
                  <a:pt x="0" y="192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76200" y="4035600"/>
            <a:ext cx="908280" cy="223560"/>
          </a:xfrm>
          <a:custGeom>
            <a:avLst/>
            <a:gdLst/>
            <a:ahLst/>
            <a:rect l="l" t="t" r="r" b="b"/>
            <a:pathLst>
              <a:path w="528" h="168">
                <a:moveTo>
                  <a:pt x="528" y="144"/>
                </a:moveTo>
                <a:cubicBezTo>
                  <a:pt x="404" y="156"/>
                  <a:pt x="280" y="168"/>
                  <a:pt x="192" y="144"/>
                </a:cubicBezTo>
                <a:cubicBezTo>
                  <a:pt x="104" y="120"/>
                  <a:pt x="52" y="60"/>
                  <a:pt x="0" y="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5400000">
            <a:off x="4533120" y="391392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Comp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5400000">
            <a:off x="4624920" y="2802960"/>
            <a:ext cx="83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MO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20538600">
            <a:off x="5720040" y="3868200"/>
            <a:ext cx="107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ferredL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35520" y="4546440"/>
            <a:ext cx="11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ternativeL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956400">
            <a:off x="5997240" y="5168880"/>
            <a:ext cx="11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ternativeL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20721600">
            <a:off x="3048120" y="5573520"/>
            <a:ext cx="167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SubsidiaryComp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937040" y="4930920"/>
            <a:ext cx="1378080" cy="896760"/>
          </a:xfrm>
          <a:custGeom>
            <a:avLst/>
            <a:gdLst/>
            <a:ahLst/>
            <a:rect l="l" t="t" r="r" b="b"/>
            <a:pathLst>
              <a:path w="800" h="672">
                <a:moveTo>
                  <a:pt x="32" y="0"/>
                </a:moveTo>
                <a:cubicBezTo>
                  <a:pt x="16" y="88"/>
                  <a:pt x="0" y="176"/>
                  <a:pt x="128" y="288"/>
                </a:cubicBezTo>
                <a:cubicBezTo>
                  <a:pt x="256" y="400"/>
                  <a:pt x="528" y="536"/>
                  <a:pt x="800" y="672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1369200">
            <a:off x="4808880" y="5551200"/>
            <a:ext cx="16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SubsidiaryComp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092400" y="4781520"/>
            <a:ext cx="1720800" cy="982800"/>
          </a:xfrm>
          <a:custGeom>
            <a:avLst/>
            <a:gdLst/>
            <a:ahLst/>
            <a:rect l="l" t="t" r="r" b="b"/>
            <a:pathLst>
              <a:path w="1000" h="736">
                <a:moveTo>
                  <a:pt x="960" y="112"/>
                </a:moveTo>
                <a:cubicBezTo>
                  <a:pt x="980" y="56"/>
                  <a:pt x="1000" y="0"/>
                  <a:pt x="960" y="64"/>
                </a:cubicBezTo>
                <a:cubicBezTo>
                  <a:pt x="920" y="128"/>
                  <a:pt x="880" y="384"/>
                  <a:pt x="720" y="496"/>
                </a:cubicBezTo>
                <a:cubicBezTo>
                  <a:pt x="560" y="608"/>
                  <a:pt x="120" y="696"/>
                  <a:pt x="0" y="736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14680" y="4648320"/>
            <a:ext cx="804960" cy="282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g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14880" y="4524480"/>
            <a:ext cx="107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62280" y="2178000"/>
            <a:ext cx="107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27600" y="1665360"/>
            <a:ext cx="0" cy="5126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781520" y="179388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SubCla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20538600">
            <a:off x="5961240" y="1628280"/>
            <a:ext cx="107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ferredL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1057200">
            <a:off x="6225480" y="2623680"/>
            <a:ext cx="11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ternativeL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9815000">
            <a:off x="1162440" y="2687400"/>
            <a:ext cx="107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276200" y="3992400"/>
            <a:ext cx="107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74840" y="3325680"/>
            <a:ext cx="99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28960" y="3946680"/>
            <a:ext cx="140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TherapeuticAre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41720" y="277020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sDru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8520" y="-25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4 Knowledg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DA6-3FC3-4405-BFE4-75F09CF40A3F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68CCD-B45B-405F-B6C1-5ADB200CE0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65040" y="10810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52280" y="1352520"/>
            <a:ext cx="8763120" cy="333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iven Company Name:  Applied Molecular Genetics Inc         Get MOA’s that this company is working 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762120" y="2114640"/>
            <a:ext cx="6718320" cy="16272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4403880" y="2671920"/>
            <a:ext cx="304776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52280" y="4387680"/>
            <a:ext cx="4343400" cy="304920"/>
          </a:xfrm>
          <a:prstGeom prst="rect">
            <a:avLst/>
          </a:prstGeom>
          <a:solidFill>
            <a:srgbClr val="99cc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e1 :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‘Without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mantic Integration  and In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06280" y="4761000"/>
            <a:ext cx="1752840" cy="2311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’ Resul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648320" y="4375080"/>
            <a:ext cx="4190760" cy="304920"/>
          </a:xfrm>
          <a:prstGeom prst="rect">
            <a:avLst/>
          </a:prstGeom>
          <a:solidFill>
            <a:srgbClr val="99cc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e2 :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‘With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emantic Integration  and In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4724280" y="4768920"/>
          <a:ext cx="3429000" cy="907920"/>
        </p:xfrm>
        <a:graphic>
          <a:graphicData uri="http://schemas.openxmlformats.org/drawingml/2006/table">
            <a:tbl>
              <a:tblPr/>
              <a:tblGrid>
                <a:gridCol w="1327320"/>
                <a:gridCol w="2101680"/>
              </a:tblGrid>
              <a:tr h="2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tin stimula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outi related protein inhibi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peptide Y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gen In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anocortin MC4 antagon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"/>
          <p:cNvSpPr/>
          <p:nvPr/>
        </p:nvSpPr>
        <p:spPr>
          <a:xfrm>
            <a:off x="8229600" y="4886280"/>
            <a:ext cx="685800" cy="457200"/>
          </a:xfrm>
          <a:prstGeom prst="ellipse">
            <a:avLst/>
          </a:prstGeom>
          <a:solidFill>
            <a:srgbClr val="ff0000">
              <a:alpha val="82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8 Resul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C4 Inferenc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F018-5F66-4AFC-8A30-3699B1EB222C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E0084-B1B2-4290-A102-361BA4CFC0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ve Informatic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C4 Conclu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Integration (instance mapping using NLP) coupled with RDF data model was successful in answering questions in Competitive Intellig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ies provide a powerful framework in providing dictionaries and taxonomical relations that help to reason and inference the data for knowledge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curation is a tedious, error prone and labor intensive-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emi-automated intelligent computer-based solution that utilizes Ontologies, Semantic Integration  and NLP  could drastically reduce manual curation process and maintain high quality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handra Ranga Gudi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4AC9-C9BA-4639-9C31-286B77E2AC5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54C69-5280-49EC-8577-18F2C6C9D3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e of Semantic Technologi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t Eli Lilly and Compan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2128680"/>
            <a:ext cx="91440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ject Over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etadata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5840" y="1527120"/>
            <a:ext cx="850428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experiment metadata from a diverse set of LSCDD relational databases into an Oracle Semantic Technologies repository for LSCDD scientific inves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unified vocabulary for LSCDD scientific inves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a complex architecture and extended developmen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e benefits in the near-te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rocess metadata to improve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e the type of questions that ontology should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stable semantic technologies, do not employ par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semantic and relational databases to work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browser, visualization, and query access into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7F00-87EE-4B4D-AA28-046D5EA28C3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6CD2E-D179-4D6A-A037-54396DFD27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t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76320" y="1219320"/>
          <a:ext cx="8991360" cy="48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19320"/>
                    <a:ext cx="899136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154E-E2B5-4E7C-838A-E340BB130E96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89917-6259-4E22-B2D3-F3729234C4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-level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343400" y="1600200"/>
            <a:ext cx="4343400" cy="1447920"/>
          </a:xfrm>
          <a:prstGeom prst="roundRect">
            <a:avLst>
              <a:gd name="adj" fmla="val 16667"/>
            </a:avLst>
          </a:prstGeom>
          <a:solidFill>
            <a:srgbClr val="99ccff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24280" y="2057400"/>
            <a:ext cx="1447920" cy="53352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-Medium"/>
              </a:rPr>
              <a:t>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0" y="2057400"/>
            <a:ext cx="1447920" cy="53352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IN-Medium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67080" y="3048120"/>
            <a:ext cx="4419720" cy="1447560"/>
          </a:xfrm>
          <a:prstGeom prst="roundRect">
            <a:avLst>
              <a:gd name="adj" fmla="val 16667"/>
            </a:avLst>
          </a:prstGeom>
          <a:solidFill>
            <a:srgbClr val="00800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67080" y="4495680"/>
            <a:ext cx="4419720" cy="144792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419720" y="5257800"/>
            <a:ext cx="76176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Af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876920" y="3352680"/>
            <a:ext cx="1218960" cy="762120"/>
          </a:xfrm>
          <a:prstGeom prst="flowChartMagneticDisk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N-Medium"/>
              </a:rPr>
              <a:t>Experim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N-Medium"/>
              </a:rPr>
              <a:t>Meta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N-Medium"/>
              </a:rPr>
              <a:t>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76920" y="4724280"/>
            <a:ext cx="76176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Agi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5257800"/>
            <a:ext cx="76212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Illu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91320" y="4724280"/>
            <a:ext cx="76176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aC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172200" y="5257800"/>
            <a:ext cx="76212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629400" y="4724280"/>
            <a:ext cx="76212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RN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257800"/>
            <a:ext cx="76212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S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543800" y="4724280"/>
            <a:ext cx="76212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848720" y="5257800"/>
            <a:ext cx="761760" cy="533520"/>
          </a:xfrm>
          <a:prstGeom prst="can">
            <a:avLst>
              <a:gd name="adj" fmla="val 25000"/>
            </a:avLst>
          </a:prstGeom>
          <a:solidFill>
            <a:srgbClr val="ff9900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3352680"/>
            <a:ext cx="1219320" cy="762120"/>
          </a:xfrm>
          <a:prstGeom prst="flowChartMagneticDisk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486400" y="2590920"/>
            <a:ext cx="0" cy="761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486400" y="2590920"/>
            <a:ext cx="2133720" cy="761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486400" y="2590920"/>
            <a:ext cx="0" cy="761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1148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257800" y="2590560"/>
            <a:ext cx="2362320" cy="2666880"/>
            <a:chOff x="5257800" y="2590560"/>
            <a:chExt cx="2362320" cy="2666880"/>
          </a:xfrm>
        </p:grpSpPr>
        <p:grpSp>
          <p:nvGrpSpPr>
            <p:cNvPr id="537" name=""/>
            <p:cNvGrpSpPr/>
            <p:nvPr/>
          </p:nvGrpSpPr>
          <p:grpSpPr>
            <a:xfrm>
              <a:off x="5257800" y="2590560"/>
              <a:ext cx="2362320" cy="2666880"/>
              <a:chOff x="5257800" y="2590560"/>
              <a:chExt cx="2362320" cy="2666880"/>
            </a:xfrm>
          </p:grpSpPr>
          <p:grpSp>
            <p:nvGrpSpPr>
              <p:cNvPr id="538" name=""/>
              <p:cNvGrpSpPr/>
              <p:nvPr/>
            </p:nvGrpSpPr>
            <p:grpSpPr>
              <a:xfrm>
                <a:off x="5257800" y="3657240"/>
                <a:ext cx="2362320" cy="1600200"/>
                <a:chOff x="5257800" y="3657240"/>
                <a:chExt cx="2362320" cy="1600200"/>
              </a:xfrm>
            </p:grpSpPr>
            <p:sp>
              <p:nvSpPr>
                <p:cNvPr id="539" name=""/>
                <p:cNvSpPr/>
                <p:nvPr/>
              </p:nvSpPr>
              <p:spPr>
                <a:xfrm flipV="1">
                  <a:off x="5257800" y="3657240"/>
                  <a:ext cx="1371600" cy="15238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V="1">
                  <a:off x="6019920" y="3657240"/>
                  <a:ext cx="609480" cy="16002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 flipV="1">
                  <a:off x="6629040" y="3657240"/>
                  <a:ext cx="304920" cy="16002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 flipV="1">
                  <a:off x="6629400" y="3657240"/>
                  <a:ext cx="990720" cy="16002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 flipV="1">
                <a:off x="6629400" y="2590560"/>
                <a:ext cx="990720" cy="1066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96240" y="3733920"/>
                <a:ext cx="3808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6705360" y="3733920"/>
                <a:ext cx="3049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6095880" y="3733920"/>
              <a:ext cx="3812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28600" y="1600200"/>
            <a:ext cx="3962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ative queries on metadata define items of 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adata and raw data are then aggregated to provide additional context for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5F2D-2F13-4581-829F-B84C5A9977E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A3110-91D6-4600-8CD0-B902951464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4480" y="1542600"/>
            <a:ext cx="8229600" cy="42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égé Ontology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Semantic Technologies 11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2R Map (Database to RDF Map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# development in Visual Studio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ata sourc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ression Data : Affymetrix, Illumina, Agi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GH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NAi Screen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nt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 Ontology (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Subject Headings (MeS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~30 million tr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8B32-C72C-4BA4-8BF6-F5CA3B5BD6C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7ED79-12E3-4C59-83F4-28053AF686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implementation of the Metadata Repository, it is now possible for users to ask questions such as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459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all the interactions for methylases that are involved in Colon cancer. For all these genes, get the expression and aCGH values for all LSCDD colon cancer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459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cell lines in which RNAi data has been generated using Dharmacon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459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e the antibodies that have been used to assess the AKT1 pathway activity in MCF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459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ll the experiments that were done using my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459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ll samples which are grade III colorectal cancer. For these sample, retrieve the expression, mutation and aCGH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BF86-3506-48C3-95AC-5726EFAC53C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06FFC-49D6-4E4C-9F9F-B80C104DC3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 Repositor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 Work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25880" indent="-42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ask more complicated scientific que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880" indent="-42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results will be integrated with raw data in relational data sources to provide the user with a single platform for detailed analy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880" indent="-42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ser input, the ontology will evolve to include additional entities and attributes as well as links to other public ont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Maurice M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1FE-D2D9-468F-BA74-510B878F3C3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CA4B7-E6B9-4E8D-936D-4E3B38A748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of Semantic Technologi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Eli Lilly and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128680"/>
            <a:ext cx="91440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ject Over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iscovery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mantic Technologies 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from an old DBA’s perspectiv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2128680"/>
            <a:ext cx="91440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xternal Collabo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Open Innovation Cen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n-profit organization led by Dr. Susie Stephens and focused on enabling pre-competitive collaborations across the pharmaceutical industry with the following go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crease health and well-being by enabling pharmaceutical companies to make better decisions during drug discovery and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vide an independent non-profit center for knowledge gathering, representation and m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reate an ecosystem of organizations that adopt the same data standards and terminology thereby simplifying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risk and minimiz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ring together leading technologists to enable rapid sharing of knowledge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benefit of organizations around the world in biopharmaceuticals, healthcare, payers, information technology, and acad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018040" y="6013440"/>
            <a:ext cx="41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Susie Stephe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BF29-B805-432D-ACE8-93469030C22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D25BF-FCB6-46F9-90FC-58E3F25F4C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ternal Collabor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tion in W3C’s HCLS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F Access to Relational Databases - Chris Bizer, Eric Prud'homme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alability testing of relational to RDF mapping approach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User Semantic Web Authoring - David Ka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hancing the scalability and robustness of the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xhibit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Potluck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tools (i.e. integrating the tools together, supporting more file types, etc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ientist-Driven Semantic Integration of Knowledge in Alzheimer's Disease - Tim Clark, June Kinosh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to develop an integrated knowledge infrastructure for the neuro-medical research community, pairing rich digital semantic context with the ever-growing digital scientific content on the we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enance Collection and Management - Carole Goble, Beth Pl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to develop a metadata taxonomy for global data at Lilly which enables the rapid integration of data and mining/analysis algorithms into dataflows which support clinical and discovery decis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CBC-4215-4D6E-8B54-22B6412986A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00D39-DA20-4EF3-A8CB-C176FAA5BB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mantic Technologies 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from an old DBA’s perspectiv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2128680"/>
            <a:ext cx="91440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tegration needs (and issues) abound at Lil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 Lilly and Company is seeing tangible benefits in multiple projects from semantic integration as a means for helping to solve this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end has been to build “semantic warehouses” due to federation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 far, data volumes are low to mod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for alignment need to be identified and aligned as necessary (both internally and extern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searching for the “best” methods for accessing semantic data holistically within the 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nance is a challenge but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are improving, but more are needed (especially in the area of visual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to operationalize semantic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5167-B9B1-49BD-AEC2-8474ED042F3C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89E57-4779-46D4-AED2-7BA84BCBF0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53960" y="1357200"/>
            <a:ext cx="376884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alyn Adams-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t Aggar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khi B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Br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ven 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s Constan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iam D Cra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hesh Kumar Guzuva Desi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nst 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Catherine Dow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Far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vin G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 G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re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a Chandra Gudi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ob Koeh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48200" y="1357200"/>
            <a:ext cx="376092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inivasulu K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Laj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urice M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matha Na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ra Nisenba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vel P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E Schersch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n Spil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ie Step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ffrey Suth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k Tomand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son W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 Y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old Y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jing Zh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212-C1A1-4914-BBCE-02E1DC79C682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421AA-F123-422F-BD97-2E72BCFB9E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overy Metadata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480" y="131112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 Master Data throughout the pharmaceutical discovery process to enable information sharing/integration for scientific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key relationships between Master Data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bility to integrate disparate data sets quicker than the normal warehouse paradigm typically a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re-usable and sustainable semantic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for user-driven, manual curation of key data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core competencies in Semantic Web technologies within Eli Li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the Semantic Web within Eli Li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o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A1A4-78CA-470C-AEA1-069B931BFDB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7E354-DE8F-486B-B4CB-A6487BF95D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5696" r="0" b="775"/>
          <a:stretch/>
        </p:blipFill>
        <p:spPr>
          <a:xfrm>
            <a:off x="0" y="550800"/>
            <a:ext cx="9144000" cy="6307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520" y="0"/>
            <a:ext cx="788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overy Metadata: Ont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34200" y="3703680"/>
            <a:ext cx="119160" cy="95076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872480" y="4714560"/>
            <a:ext cx="790560" cy="468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305920" y="4147920"/>
            <a:ext cx="676080" cy="468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91440" y="3686040"/>
            <a:ext cx="395280" cy="41436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39080" y="3633480"/>
            <a:ext cx="371520" cy="468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86600" y="2776680"/>
            <a:ext cx="128880" cy="79524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710480" y="2690640"/>
            <a:ext cx="514440" cy="504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605720" y="1981080"/>
            <a:ext cx="433440" cy="504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39000" y="2028960"/>
            <a:ext cx="119160" cy="62388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738560" y="3686040"/>
            <a:ext cx="328680" cy="30492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353360" y="4038120"/>
            <a:ext cx="623880" cy="9720"/>
          </a:xfrm>
          <a:prstGeom prst="line">
            <a:avLst/>
          </a:prstGeom>
          <a:ln w="76320">
            <a:solidFill>
              <a:srgbClr val="0066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2960" y="3719520"/>
            <a:ext cx="400320" cy="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068800" y="3160440"/>
            <a:ext cx="509760" cy="46188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27560" y="3129120"/>
            <a:ext cx="738360" cy="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719520" y="3214440"/>
            <a:ext cx="528480" cy="140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9480" y="3267000"/>
            <a:ext cx="738360" cy="3621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3840" y="3422520"/>
            <a:ext cx="609840" cy="50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121360" y="3470400"/>
            <a:ext cx="461880" cy="19512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33880" y="3733920"/>
            <a:ext cx="285840" cy="2667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091120" y="4052880"/>
            <a:ext cx="595440" cy="93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200480" y="3981600"/>
            <a:ext cx="500040" cy="93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29160" y="3738600"/>
            <a:ext cx="342720" cy="2001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67320" y="3700440"/>
            <a:ext cx="409680" cy="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81680" y="2790720"/>
            <a:ext cx="623880" cy="50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15040" y="2847960"/>
            <a:ext cx="333360" cy="75708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743440" y="3981240"/>
            <a:ext cx="538200" cy="468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19640" y="3733920"/>
            <a:ext cx="347760" cy="19512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719760" y="3333240"/>
            <a:ext cx="538200" cy="2955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077240" y="3266640"/>
            <a:ext cx="537840" cy="972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72440" y="3281400"/>
            <a:ext cx="647640" cy="3380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162400" y="3690720"/>
            <a:ext cx="204840" cy="140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367240" y="3686040"/>
            <a:ext cx="990720" cy="1440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128680" y="4642920"/>
            <a:ext cx="42876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171520" y="4714920"/>
            <a:ext cx="161640" cy="5763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62280" y="5334120"/>
            <a:ext cx="59040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66840" y="5396040"/>
            <a:ext cx="5040" cy="32364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14480" y="5772240"/>
            <a:ext cx="51444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14440" y="6477120"/>
            <a:ext cx="54756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305080" y="6586200"/>
            <a:ext cx="71424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828800" y="6781680"/>
            <a:ext cx="542880" cy="1440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104560" y="5824440"/>
            <a:ext cx="57240" cy="90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719360" y="5834160"/>
            <a:ext cx="404640" cy="59040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5838840"/>
            <a:ext cx="438120" cy="7048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537920" y="4695840"/>
            <a:ext cx="747720" cy="7621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119240" y="5514840"/>
            <a:ext cx="733320" cy="504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252440" y="5567400"/>
            <a:ext cx="214560" cy="4618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9720" y="6086520"/>
            <a:ext cx="652320" cy="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823680" y="6143760"/>
            <a:ext cx="361800" cy="3571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43080" y="6543720"/>
            <a:ext cx="861840" cy="1440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337760" y="4700520"/>
            <a:ext cx="809640" cy="2667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81200" y="5014800"/>
            <a:ext cx="761760" cy="504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85800" y="5062680"/>
            <a:ext cx="419040" cy="4521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567400"/>
            <a:ext cx="66672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3080" y="5624640"/>
            <a:ext cx="266400" cy="5475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-360" y="6234120"/>
            <a:ext cx="785880" cy="93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314360" y="4672080"/>
            <a:ext cx="814320" cy="2844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33520" y="4723920"/>
            <a:ext cx="78552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7560" y="4452480"/>
            <a:ext cx="62892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04640" y="4176720"/>
            <a:ext cx="662040" cy="1440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52520" y="3871440"/>
            <a:ext cx="59508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157040" y="4486320"/>
            <a:ext cx="995400" cy="13824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38160" y="4243320"/>
            <a:ext cx="1195560" cy="3621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57160" y="3919680"/>
            <a:ext cx="1366920" cy="6807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300400" y="3242880"/>
            <a:ext cx="47520" cy="13431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890720" y="3176280"/>
            <a:ext cx="83340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338560" y="2786040"/>
            <a:ext cx="190440" cy="3333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09840" y="1476360"/>
            <a:ext cx="457200" cy="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57680" y="1523880"/>
            <a:ext cx="1019160" cy="20952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748040" y="1790280"/>
            <a:ext cx="667080" cy="972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243240" y="1533600"/>
            <a:ext cx="262080" cy="38556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05120" y="1962000"/>
            <a:ext cx="795240" cy="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29080" y="2014560"/>
            <a:ext cx="528480" cy="6382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571840" y="2252520"/>
            <a:ext cx="0" cy="409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28840" y="2719440"/>
            <a:ext cx="48564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95360" y="2200320"/>
            <a:ext cx="567000" cy="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29160" y="1528920"/>
            <a:ext cx="685800" cy="4474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29120" y="2019240"/>
            <a:ext cx="723960" cy="190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685880" y="909360"/>
            <a:ext cx="585720" cy="190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040" y="976320"/>
            <a:ext cx="409320" cy="43344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00360" y="1023840"/>
            <a:ext cx="419040" cy="3952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76680" y="976320"/>
            <a:ext cx="81432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381560" y="804600"/>
            <a:ext cx="485640" cy="1141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7840" y="752400"/>
            <a:ext cx="48096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353200" y="690480"/>
            <a:ext cx="442800" cy="525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781600" y="666360"/>
            <a:ext cx="704880" cy="468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71680" y="2457360"/>
            <a:ext cx="414360" cy="46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4840" y="2452680"/>
            <a:ext cx="362160" cy="936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61960" y="2448000"/>
            <a:ext cx="542880" cy="936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38240" y="1461960"/>
            <a:ext cx="628560" cy="504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0120" y="1838160"/>
            <a:ext cx="757080" cy="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42920" y="1890720"/>
            <a:ext cx="576360" cy="52380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76280" y="1509840"/>
            <a:ext cx="290520" cy="90936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709640" y="1909800"/>
            <a:ext cx="262080" cy="49536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38440" y="1857240"/>
            <a:ext cx="552240" cy="504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100240" y="1514520"/>
            <a:ext cx="357120" cy="28584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1936440" y="3710160"/>
            <a:ext cx="368280" cy="8762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663560" y="3652560"/>
            <a:ext cx="495360" cy="612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682640" y="2535120"/>
            <a:ext cx="222480" cy="10670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8153280" y="2808360"/>
            <a:ext cx="381240" cy="77472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337600" y="2757240"/>
            <a:ext cx="469800" cy="612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8559720" y="2356920"/>
            <a:ext cx="31680" cy="34308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8331120" y="2306520"/>
            <a:ext cx="527040" cy="648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585280" y="1690200"/>
            <a:ext cx="6120" cy="55908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223120" y="1620720"/>
            <a:ext cx="736560" cy="648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78240" y="3992400"/>
            <a:ext cx="765000" cy="648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841920" y="3598560"/>
            <a:ext cx="323640" cy="34596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908520" y="3557520"/>
            <a:ext cx="568080" cy="648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16480" y="3602160"/>
            <a:ext cx="355680" cy="6660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800520" y="3569760"/>
            <a:ext cx="307800" cy="35892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905280" y="3487320"/>
            <a:ext cx="565200" cy="32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5840" y="3548160"/>
            <a:ext cx="355680" cy="698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4056120"/>
            <a:ext cx="285840" cy="29520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40040" y="4405320"/>
            <a:ext cx="822600" cy="3240"/>
          </a:xfrm>
          <a:prstGeom prst="line">
            <a:avLst/>
          </a:prstGeom>
          <a:ln w="76320">
            <a:solidFill>
              <a:srgbClr val="660066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167440" y="3619440"/>
            <a:ext cx="204840" cy="1440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72280" y="3614760"/>
            <a:ext cx="990360" cy="1440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7040" y="3624120"/>
            <a:ext cx="409680" cy="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681960" y="3281400"/>
            <a:ext cx="537840" cy="29520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067520" y="3191040"/>
            <a:ext cx="538200" cy="936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429680" y="3233880"/>
            <a:ext cx="647640" cy="3380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62120" y="4643280"/>
            <a:ext cx="505080" cy="50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067200" y="4653000"/>
            <a:ext cx="637920" cy="936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14840" y="4695840"/>
            <a:ext cx="542880" cy="9036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257720" y="4800240"/>
            <a:ext cx="571320" cy="468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595760" y="4323960"/>
            <a:ext cx="333360" cy="42372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34000" y="4257720"/>
            <a:ext cx="490320" cy="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971600" y="3747960"/>
            <a:ext cx="4680" cy="462240"/>
          </a:xfrm>
          <a:prstGeom prst="line">
            <a:avLst/>
          </a:prstGeom>
          <a:ln w="76320">
            <a:solidFill>
              <a:srgbClr val="ff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770960" y="6207120"/>
            <a:ext cx="1147680" cy="606600"/>
            <a:chOff x="7770960" y="6207120"/>
            <a:chExt cx="1147680" cy="606600"/>
          </a:xfrm>
        </p:grpSpPr>
        <p:sp>
          <p:nvSpPr>
            <p:cNvPr id="221" name=""/>
            <p:cNvSpPr/>
            <p:nvPr/>
          </p:nvSpPr>
          <p:spPr>
            <a:xfrm>
              <a:off x="7780320" y="6207120"/>
              <a:ext cx="547920" cy="168120"/>
            </a:xfrm>
            <a:prstGeom prst="rect">
              <a:avLst/>
            </a:prstGeom>
            <a:solidFill>
              <a:srgbClr val="3366f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80320" y="6426360"/>
              <a:ext cx="547920" cy="168120"/>
            </a:xfrm>
            <a:prstGeom prst="rect">
              <a:avLst/>
            </a:prstGeom>
            <a:solidFill>
              <a:srgbClr val="660066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REFDB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70960" y="6645240"/>
              <a:ext cx="547560" cy="168480"/>
            </a:xfrm>
            <a:prstGeom prst="rect">
              <a:avLst/>
            </a:prstGeom>
            <a:solidFill>
              <a:srgbClr val="0033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NCBI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71080" y="6426360"/>
              <a:ext cx="547560" cy="168120"/>
            </a:xfrm>
            <a:prstGeom prst="rect">
              <a:avLst/>
            </a:prstGeom>
            <a:solidFill>
              <a:srgbClr val="6633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371080" y="6645240"/>
              <a:ext cx="547560" cy="168480"/>
            </a:xfrm>
            <a:prstGeom prst="rect">
              <a:avLst/>
            </a:prstGeom>
            <a:solidFill>
              <a:srgbClr val="ff00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Manual Curati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71080" y="6207120"/>
              <a:ext cx="547560" cy="168120"/>
            </a:xfrm>
            <a:prstGeom prst="rect">
              <a:avLst/>
            </a:prstGeom>
            <a:solidFill>
              <a:srgbClr val="ffff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Legac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782960" y="3649680"/>
            <a:ext cx="400320" cy="0"/>
          </a:xfrm>
          <a:prstGeom prst="line">
            <a:avLst/>
          </a:prstGeom>
          <a:ln w="76320">
            <a:solidFill>
              <a:srgbClr val="ffff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30960" y="3352680"/>
            <a:ext cx="609480" cy="5040"/>
          </a:xfrm>
          <a:prstGeom prst="line">
            <a:avLst/>
          </a:prstGeom>
          <a:ln w="76320">
            <a:solidFill>
              <a:srgbClr val="ffff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30800" y="3052800"/>
            <a:ext cx="738360" cy="0"/>
          </a:xfrm>
          <a:prstGeom prst="line">
            <a:avLst/>
          </a:prstGeom>
          <a:ln w="76320">
            <a:solidFill>
              <a:srgbClr val="ffff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995720" y="3132000"/>
            <a:ext cx="509760" cy="462240"/>
          </a:xfrm>
          <a:prstGeom prst="line">
            <a:avLst/>
          </a:prstGeom>
          <a:ln w="76320">
            <a:solidFill>
              <a:srgbClr val="ffff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086440" y="3413160"/>
            <a:ext cx="461880" cy="195120"/>
          </a:xfrm>
          <a:prstGeom prst="line">
            <a:avLst/>
          </a:prstGeom>
          <a:ln w="76320">
            <a:solidFill>
              <a:srgbClr val="ffff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00560" y="809640"/>
            <a:ext cx="428760" cy="26676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040" y="1123920"/>
            <a:ext cx="642960" cy="9720"/>
          </a:xfrm>
          <a:prstGeom prst="line">
            <a:avLst/>
          </a:prstGeom>
          <a:ln w="76320">
            <a:solidFill>
              <a:srgbClr val="3366f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28760" y="1467000"/>
            <a:ext cx="576360" cy="46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805120" y="1471320"/>
            <a:ext cx="504720" cy="46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772080" y="1476000"/>
            <a:ext cx="328320" cy="46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095360" y="1476360"/>
            <a:ext cx="590760" cy="4680"/>
          </a:xfrm>
          <a:prstGeom prst="line">
            <a:avLst/>
          </a:prstGeom>
          <a:ln w="76320">
            <a:solidFill>
              <a:srgbClr val="6633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446A-916F-4DD4-9995-42D45165513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96E4F-10B4-4BD0-BECF-4F71CE78EF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overy Metadata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155600" y="1254240"/>
            <a:ext cx="6832440" cy="4670280"/>
            <a:chOff x="1155600" y="1254240"/>
            <a:chExt cx="6832440" cy="4670280"/>
          </a:xfrm>
        </p:grpSpPr>
        <p:sp>
          <p:nvSpPr>
            <p:cNvPr id="240" name=""/>
            <p:cNvSpPr/>
            <p:nvPr/>
          </p:nvSpPr>
          <p:spPr>
            <a:xfrm>
              <a:off x="1734840" y="3054240"/>
              <a:ext cx="54882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22240" y="2120760"/>
              <a:ext cx="54864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34840" y="5010120"/>
              <a:ext cx="54882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1722240" y="1327320"/>
              <a:ext cx="4867200" cy="687240"/>
              <a:chOff x="1722240" y="1327320"/>
              <a:chExt cx="4867200" cy="687240"/>
            </a:xfrm>
          </p:grpSpPr>
          <p:sp>
            <p:nvSpPr>
              <p:cNvPr id="244" name=""/>
              <p:cNvSpPr/>
              <p:nvPr/>
            </p:nvSpPr>
            <p:spPr>
              <a:xfrm>
                <a:off x="1722240" y="1327320"/>
                <a:ext cx="486720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bbe0e3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133360" y="1464840"/>
                <a:ext cx="685800" cy="412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pplication 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07600" y="1464840"/>
                <a:ext cx="685800" cy="412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pplication 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82200" y="1464840"/>
                <a:ext cx="685800" cy="412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pplication 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356440" y="1464840"/>
                <a:ext cx="685800" cy="412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1757160" y="2347920"/>
              <a:ext cx="5143320" cy="479520"/>
              <a:chOff x="1757160" y="2347920"/>
              <a:chExt cx="5143320" cy="479520"/>
            </a:xfrm>
          </p:grpSpPr>
          <p:sp>
            <p:nvSpPr>
              <p:cNvPr id="250" name=""/>
              <p:cNvSpPr/>
              <p:nvPr/>
            </p:nvSpPr>
            <p:spPr>
              <a:xfrm>
                <a:off x="1757160" y="2347920"/>
                <a:ext cx="4114800" cy="479520"/>
              </a:xfrm>
              <a:prstGeom prst="roundRect">
                <a:avLst>
                  <a:gd name="adj" fmla="val 16667"/>
                </a:avLst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A Layer/Enterprise Service Bu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WebServices, Visualizers, DataAccess Components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028920" y="2416320"/>
                <a:ext cx="871560" cy="3081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uthentic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1161720" y="2155680"/>
              <a:ext cx="411120" cy="86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55600" y="3089160"/>
              <a:ext cx="411120" cy="1920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55600" y="1254240"/>
              <a:ext cx="411120" cy="833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1758600" y="3139920"/>
              <a:ext cx="4799160" cy="1746360"/>
              <a:chOff x="1758600" y="3139920"/>
              <a:chExt cx="4799160" cy="1746360"/>
            </a:xfrm>
          </p:grpSpPr>
          <p:sp>
            <p:nvSpPr>
              <p:cNvPr id="256" name=""/>
              <p:cNvSpPr/>
              <p:nvPr/>
            </p:nvSpPr>
            <p:spPr>
              <a:xfrm>
                <a:off x="1758600" y="3603240"/>
                <a:ext cx="4799160" cy="104004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7" name="" descr="Oracle, The World's Largest Enterprise Software Company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3587400" y="4732200"/>
                <a:ext cx="1140120" cy="15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8" name=""/>
              <p:cNvGrpSpPr/>
              <p:nvPr/>
            </p:nvGrpSpPr>
            <p:grpSpPr>
              <a:xfrm>
                <a:off x="3378600" y="3139920"/>
                <a:ext cx="1898280" cy="409680"/>
                <a:chOff x="3378600" y="3139920"/>
                <a:chExt cx="1898280" cy="40968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378600" y="3220920"/>
                  <a:ext cx="1898280" cy="276480"/>
                  <a:chOff x="3378600" y="3220920"/>
                  <a:chExt cx="1898280" cy="27648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378600" y="3220920"/>
                    <a:ext cx="4870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SQ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4475880" y="3220920"/>
                    <a:ext cx="80100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SPARQ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3877920" y="3139920"/>
                  <a:ext cx="557280" cy="409680"/>
                  <a:chOff x="3877920" y="3139920"/>
                  <a:chExt cx="557280" cy="40968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3877920" y="3139920"/>
                    <a:ext cx="12600" cy="4096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4422600" y="3139920"/>
                    <a:ext cx="12600" cy="4096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5" name=""/>
              <p:cNvGrpSpPr/>
              <p:nvPr/>
            </p:nvGrpSpPr>
            <p:grpSpPr>
              <a:xfrm>
                <a:off x="1844640" y="3987720"/>
                <a:ext cx="501480" cy="529920"/>
                <a:chOff x="1844640" y="3987720"/>
                <a:chExt cx="501480" cy="5299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1844640" y="3987720"/>
                  <a:ext cx="501480" cy="529920"/>
                </a:xfrm>
                <a:prstGeom prst="rect">
                  <a:avLst/>
                </a:prstGeom>
                <a:solidFill>
                  <a:srgbClr val="ffff66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del 1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67" name="" descr="rdf icons">
                  <a:hlinkClick r:id="rId3"/>
                </p:cNvPr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004840" y="4290840"/>
                  <a:ext cx="181080" cy="19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8" name=""/>
              <p:cNvGrpSpPr/>
              <p:nvPr/>
            </p:nvGrpSpPr>
            <p:grpSpPr>
              <a:xfrm>
                <a:off x="2393640" y="3987720"/>
                <a:ext cx="501480" cy="529920"/>
                <a:chOff x="2393640" y="3987720"/>
                <a:chExt cx="501480" cy="5299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2393640" y="3987720"/>
                  <a:ext cx="501480" cy="529920"/>
                </a:xfrm>
                <a:prstGeom prst="rect">
                  <a:avLst/>
                </a:prstGeom>
                <a:solidFill>
                  <a:srgbClr val="99ff66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del 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0" name="" descr="rdf icons">
                  <a:hlinkClick r:id="rId5"/>
                </p:cNvPr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53840" y="4292280"/>
                  <a:ext cx="181080" cy="19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1" name=""/>
              <p:cNvGrpSpPr/>
              <p:nvPr/>
            </p:nvGrpSpPr>
            <p:grpSpPr>
              <a:xfrm>
                <a:off x="2944440" y="3987720"/>
                <a:ext cx="501840" cy="529920"/>
                <a:chOff x="2944440" y="3987720"/>
                <a:chExt cx="501840" cy="5299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944440" y="3987720"/>
                  <a:ext cx="501840" cy="529920"/>
                </a:xfrm>
                <a:prstGeom prst="rect">
                  <a:avLst/>
                </a:prstGeom>
                <a:solidFill>
                  <a:srgbClr val="ff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del 3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3" name="" descr="rdf icons">
                  <a:hlinkClick r:id="rId7"/>
                </p:cNvPr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105000" y="4292280"/>
                  <a:ext cx="180720" cy="19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4" name=""/>
              <p:cNvGrpSpPr/>
              <p:nvPr/>
            </p:nvGrpSpPr>
            <p:grpSpPr>
              <a:xfrm>
                <a:off x="3495600" y="3987720"/>
                <a:ext cx="501480" cy="529920"/>
                <a:chOff x="3495600" y="3987720"/>
                <a:chExt cx="501480" cy="5299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495600" y="3987720"/>
                  <a:ext cx="501480" cy="529920"/>
                </a:xfrm>
                <a:prstGeom prst="rect">
                  <a:avLst/>
                </a:prstGeom>
                <a:solidFill>
                  <a:srgbClr val="ff9933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del 4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6" name="" descr="rdf icons">
                  <a:hlinkClick r:id="rId9"/>
                </p:cNvPr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655800" y="4292280"/>
                  <a:ext cx="181080" cy="19800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</p:grpSp>
          <p:grpSp>
            <p:nvGrpSpPr>
              <p:cNvPr id="277" name=""/>
              <p:cNvGrpSpPr/>
              <p:nvPr/>
            </p:nvGrpSpPr>
            <p:grpSpPr>
              <a:xfrm>
                <a:off x="4641480" y="3990600"/>
                <a:ext cx="577800" cy="527040"/>
                <a:chOff x="4641480" y="3990600"/>
                <a:chExt cx="577800" cy="5270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641480" y="3990600"/>
                  <a:ext cx="577800" cy="527040"/>
                </a:xfrm>
                <a:prstGeom prst="rect">
                  <a:avLst/>
                </a:prstGeom>
                <a:solidFill>
                  <a:srgbClr val="660066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Loca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Assertion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9" name="" descr="rdf icons">
                  <a:hlinkClick r:id="rId11"/>
                </p:cNvPr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839840" y="4295520"/>
                  <a:ext cx="181080" cy="196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80" name=""/>
              <p:cNvGrpSpPr/>
              <p:nvPr/>
            </p:nvGrpSpPr>
            <p:grpSpPr>
              <a:xfrm>
                <a:off x="5268600" y="3989160"/>
                <a:ext cx="574560" cy="528480"/>
                <a:chOff x="5268600" y="3989160"/>
                <a:chExt cx="574560" cy="5284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5268600" y="3989160"/>
                  <a:ext cx="574560" cy="528480"/>
                </a:xfrm>
                <a:prstGeom prst="rect">
                  <a:avLst/>
                </a:prstGeom>
                <a:solidFill>
                  <a:srgbClr val="000099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Top Leve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Ontolog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82" name="" descr="rdf icons">
                  <a:hlinkClick r:id="rId13"/>
                </p:cNvPr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465520" y="4293720"/>
                  <a:ext cx="181080" cy="19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83" name=""/>
              <p:cNvSpPr/>
              <p:nvPr/>
            </p:nvSpPr>
            <p:spPr>
              <a:xfrm>
                <a:off x="5892480" y="3987720"/>
                <a:ext cx="614520" cy="52992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00"/>
                    </a:solidFill>
                    <a:latin typeface="Arial"/>
                  </a:rPr>
                  <a:t>Provenanc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4044600" y="3962160"/>
                <a:ext cx="547560" cy="555120"/>
                <a:chOff x="4044600" y="3962160"/>
                <a:chExt cx="547560" cy="55512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4044600" y="3962160"/>
                  <a:ext cx="500400" cy="502560"/>
                  <a:chOff x="4044600" y="3962160"/>
                  <a:chExt cx="500400" cy="5025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4044600" y="3962160"/>
                    <a:ext cx="500400" cy="502560"/>
                  </a:xfrm>
                  <a:prstGeom prst="rect">
                    <a:avLst/>
                  </a:prstGeom>
                  <a:solidFill>
                    <a:srgbClr val="99cc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ther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Source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87" name="" descr="rdf icons"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04080" y="4235400"/>
                    <a:ext cx="180720" cy="1976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4068360" y="3989160"/>
                  <a:ext cx="500760" cy="502560"/>
                  <a:chOff x="4068360" y="3989160"/>
                  <a:chExt cx="500760" cy="5025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4068360" y="3989160"/>
                    <a:ext cx="500760" cy="502560"/>
                  </a:xfrm>
                  <a:prstGeom prst="rect">
                    <a:avLst/>
                  </a:prstGeom>
                  <a:solidFill>
                    <a:srgbClr val="99cc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ther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Source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90" name="" descr="rdf icons">
                    <a:hlinkClick r:id="rId17"/>
                  </p:cNvPr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27840" y="4262400"/>
                    <a:ext cx="181080" cy="1976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4091400" y="4015080"/>
                  <a:ext cx="500760" cy="502200"/>
                  <a:chOff x="4091400" y="4015080"/>
                  <a:chExt cx="500760" cy="50220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4091400" y="4015080"/>
                    <a:ext cx="500760" cy="502200"/>
                  </a:xfrm>
                  <a:prstGeom prst="rect">
                    <a:avLst/>
                  </a:prstGeom>
                  <a:solidFill>
                    <a:srgbClr val="99cc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Sourc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…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93" name="" descr="rdf icons">
                    <a:hlinkClick r:id="rId19"/>
                  </p:cNvPr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50880" y="4287960"/>
                    <a:ext cx="181080" cy="1972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grpSp>
          </p:grpSp>
        </p:grpSp>
        <p:grpSp>
          <p:nvGrpSpPr>
            <p:cNvPr id="294" name=""/>
            <p:cNvGrpSpPr/>
            <p:nvPr/>
          </p:nvGrpSpPr>
          <p:grpSpPr>
            <a:xfrm>
              <a:off x="7380000" y="3382920"/>
              <a:ext cx="608040" cy="1333440"/>
              <a:chOff x="7380000" y="3382920"/>
              <a:chExt cx="608040" cy="1333440"/>
            </a:xfrm>
          </p:grpSpPr>
          <p:sp>
            <p:nvSpPr>
              <p:cNvPr id="295" name=""/>
              <p:cNvSpPr/>
              <p:nvPr/>
            </p:nvSpPr>
            <p:spPr>
              <a:xfrm>
                <a:off x="7380000" y="3382920"/>
                <a:ext cx="608040" cy="133344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ET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7381440" y="3589920"/>
                <a:ext cx="603360" cy="521280"/>
                <a:chOff x="7381440" y="3589920"/>
                <a:chExt cx="603360" cy="5212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7434360" y="3591360"/>
                  <a:ext cx="495720" cy="515160"/>
                </a:xfrm>
                <a:prstGeom prst="rect">
                  <a:avLst/>
                </a:prstGeom>
                <a:solidFill>
                  <a:srgbClr val="000066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8" name=""/>
                <p:cNvGrpSpPr/>
                <p:nvPr/>
              </p:nvGrpSpPr>
              <p:grpSpPr>
                <a:xfrm>
                  <a:off x="7381440" y="3589920"/>
                  <a:ext cx="603360" cy="521280"/>
                  <a:chOff x="7381440" y="3589920"/>
                  <a:chExt cx="603360" cy="521280"/>
                </a:xfrm>
              </p:grpSpPr>
              <p:pic>
                <p:nvPicPr>
                  <p:cNvPr id="299" name="" descr=""/>
                  <p:cNvPicPr/>
                  <p:nvPr/>
                </p:nvPicPr>
                <p:blipFill>
                  <a:blip r:embed="rId21"/>
                  <a:srcRect l="12723" t="5071" r="62909" b="85261"/>
                  <a:stretch/>
                </p:blipFill>
                <p:spPr>
                  <a:xfrm>
                    <a:off x="7381440" y="3589920"/>
                    <a:ext cx="6033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00" name="" descr=""/>
                  <p:cNvPicPr/>
                  <p:nvPr/>
                </p:nvPicPr>
                <p:blipFill>
                  <a:blip r:embed="rId22"/>
                  <a:srcRect l="12723" t="14760" r="62909" b="62935"/>
                  <a:stretch/>
                </p:blipFill>
                <p:spPr>
                  <a:xfrm>
                    <a:off x="7539840" y="3845520"/>
                    <a:ext cx="288000" cy="2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301" name=""/>
              <p:cNvSpPr/>
              <p:nvPr/>
            </p:nvSpPr>
            <p:spPr>
              <a:xfrm>
                <a:off x="7432560" y="4140360"/>
                <a:ext cx="496440" cy="515880"/>
              </a:xfrm>
              <a:prstGeom prst="rect">
                <a:avLst/>
              </a:prstGeom>
              <a:solidFill>
                <a:srgbClr val="ffff66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th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oo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787480" y="5214960"/>
              <a:ext cx="2742840" cy="709560"/>
              <a:chOff x="2787480" y="5214960"/>
              <a:chExt cx="2742840" cy="709560"/>
            </a:xfrm>
          </p:grpSpPr>
          <p:pic>
            <p:nvPicPr>
              <p:cNvPr id="303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787480" y="5214960"/>
                <a:ext cx="681120" cy="7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4638960" y="5294880"/>
                <a:ext cx="891360" cy="549000"/>
              </a:xfrm>
              <a:prstGeom prst="flowChartMultidocumen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Spreadshee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3675960" y="5226120"/>
                <a:ext cx="753840" cy="686520"/>
                <a:chOff x="3675960" y="5226120"/>
                <a:chExt cx="753840" cy="6865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675960" y="5226120"/>
                  <a:ext cx="616680" cy="54936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744360" y="5294880"/>
                  <a:ext cx="616680" cy="54900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813120" y="5363640"/>
                  <a:ext cx="616680" cy="54900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Rdbm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 flipH="1" flipV="1" rot="16200000">
              <a:off x="7173000" y="2466720"/>
              <a:ext cx="753840" cy="754200"/>
            </a:xfrm>
            <a:custGeom>
              <a:avLst/>
              <a:gdLst>
                <a:gd name="textAreaLeft" fmla="*/ 360 w 753840"/>
                <a:gd name="textAreaRight" fmla="*/ 754560 w 753840"/>
                <a:gd name="textAreaTop" fmla="*/ -360 h 754200"/>
                <a:gd name="textAreaBottom" fmla="*/ 754200 h 75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rot="5400000">
              <a:off x="7172280" y="4872240"/>
              <a:ext cx="755640" cy="754200"/>
            </a:xfrm>
            <a:custGeom>
              <a:avLst/>
              <a:gdLst>
                <a:gd name="textAreaLeft" fmla="*/ -360 w 755640"/>
                <a:gd name="textAreaRight" fmla="*/ 755640 w 75564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76920" y="3843360"/>
              <a:ext cx="593640" cy="411120"/>
            </a:xfrm>
            <a:prstGeom prst="leftArrow">
              <a:avLst>
                <a:gd name="adj1" fmla="val 54444"/>
                <a:gd name="adj2" fmla="val 57143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E40-32F8-4F5C-B23A-9F13B03D757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817C2-8232-49F3-87B5-3C5DF81644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overy Metadata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Semantic Technologies 11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Braid Composer, Maestro Edition v2.6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Oracle models segregated by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-Level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 data sources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data sources (NCB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/Local assertions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 4.4M tr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ed triples: 2.1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rred triples: 2.3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-developed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-driven web service providing cross-application access to mast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EE4-59E0-4174-885A-83771FBA3B7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87950-8C88-40D8-8265-9218E5238F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852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overy Metadata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480" y="15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provenance at the instanc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additional data sources (MeSH, Gene Ontology, KEGG, internal data 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alize loa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e visualizatio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reviews (scala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0F4-2715-443B-99CC-C456ABA4A79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2C108-3BF8-45D9-8957-41ABCB164E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916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e of Semantic Technologi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t Eli Lilly and Compan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2128680"/>
            <a:ext cx="91440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ject Over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tegrative Infor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8:02:17Z</dcterms:created>
  <dc:creator>New User</dc:creator>
  <dc:description/>
  <dc:language>en-US</dc:language>
  <cp:lastModifiedBy>jl87352</cp:lastModifiedBy>
  <dcterms:modified xsi:type="dcterms:W3CDTF">2008-09-30T18:55:24Z</dcterms:modified>
  <cp:revision>58</cp:revision>
  <dc:subject/>
  <dc:title>Semantic technologies from a old DBA's Perspective</dc:title>
</cp:coreProperties>
</file>